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applause.wav" ContentType="audio/x-wav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EB8-1F14-4BF2-92D0-0A168386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AE0-152C-46CF-9B56-66BF55D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836-B9DC-4D4B-9BAB-55FBEEC8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9DE-4EC6-4CE2-9DEF-0B2C1E67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287B-D148-440F-AAD9-A9290482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F8F-E37B-4EFD-97FA-5C5DCA6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CA7-91D9-4437-A125-BE11417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50CD-261C-42F2-954A-BF2217A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FA92-B60E-42C6-AF2A-A3B9BE07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75F-6512-4924-ABB7-88785B3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742-16F3-479B-A106-D943955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7C0-4ACF-468F-BFDF-CE468A7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B08-D65D-41E4-A997-26519FD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7BD-3C16-4FE4-84C9-787B384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243C-46D1-4A45-B211-FDB8B68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50C-8C11-4032-B11C-C23AE03A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739B-F67B-4C43-82E7-D833891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8CB-37D7-452B-8224-D39BBEA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E2A-AE3E-4026-9A5A-C98F8735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A5F-A5FA-4014-8BBE-D3BFCF8F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C81-BF77-44BD-A7E7-58564C59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8F6-C2F9-4713-A19D-7E926F5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69C-245A-48E2-9933-7CEBEEC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D52-7D6B-4C4D-8446-1C8E338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EAA-C2DC-4FFF-9FDE-75106B1A5847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B17-8E6D-4B7F-A4C9-635BFECCC21E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609480"/>
            <a:ext cx="358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153"/>
                <a:gd name="adj2" fmla="val 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祝福您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90920" y="2971800"/>
            <a:ext cx="4495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伟大祖国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1887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Times New Roman"/>
              </a:rPr>
              <a:t>长  长  长  长  长  长  长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358128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Times New Roman"/>
              </a:rPr>
              <a:t>长  长  长  长  长  长  长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0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Ch     zh      ch       zh      ch      ch       z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33501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Zh      ch       zh      ch      zh       zh       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1399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猜  字  谜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252960"/>
            <a:ext cx="5943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《三国演义》魏蜀吴各有据点，《水浒传》诸好汉同奔一方，《西游记》多神圣似人非人，《红楼梦》大观园佳人才子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（打一字）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48520" y="4876920"/>
            <a:ext cx="1143000" cy="838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oubleWave1">
              <a:avLst>
                <a:gd name="adj1" fmla="val 5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2:15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5:30Z</dcterms:modified>
  <cp:revision>2</cp:revision>
  <dc:subject>主题班会课件(分28大类): http://shop62905894.taobao.com</dc:subject>
  <dc:title>主题班会课件(分28大类): http://shop62905894.taobao.com</dc:title>
</cp:coreProperties>
</file>